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99C-C2C0-4EFA-B424-E4108D81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93A-69B0-4DCA-B101-2D2B647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329-8203-4C2D-A5A0-D2CC5650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8F9-3BC7-4A33-B51F-139EB708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5EA-23A3-4184-9FB8-B260061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CD4-5217-4BFC-8820-2184489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D7E-369C-406C-BAA5-3B4DA9C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10D-56AE-47DD-A291-79BD6FD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B52-BD1D-4C4A-90EC-EBA4E6DA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A7C-9E35-4E0E-ADAC-C6CB413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C3D-177B-4301-B547-DF1DE04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AA2-5D5C-47DB-9D45-46DC116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71FB-CFFF-43DE-858B-B129AB3B1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2120" y="2361960"/>
            <a:ext cx="53337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12" descr="C:\Users\dwilliams2\AppData\Local\Microsoft\Windows\Temporary Internet Files\Content.IE5\WGVGCCAF\MC900438103[1].wmf"/>
          <p:cNvPicPr/>
          <p:nvPr/>
        </p:nvPicPr>
        <p:blipFill>
          <a:blip r:embed="rId1"/>
          <a:stretch/>
        </p:blipFill>
        <p:spPr>
          <a:xfrm>
            <a:off x="0" y="0"/>
            <a:ext cx="6858000" cy="18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C:\Users\dwilliams2\AppData\Local\Microsoft\Windows\Temporary Internet Files\Content.IE5\ES5BI6NL\MP900407518[1].jpg"/>
          <p:cNvPicPr/>
          <p:nvPr/>
        </p:nvPicPr>
        <p:blipFill>
          <a:blip r:embed="rId2"/>
          <a:stretch/>
        </p:blipFill>
        <p:spPr>
          <a:xfrm>
            <a:off x="0" y="6573960"/>
            <a:ext cx="6858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09T16:14:19Z</dcterms:modified>
  <cp:revision>3</cp:revision>
  <dc:subject/>
  <dc:title>PowerPoint Presentation</dc:title>
</cp:coreProperties>
</file>